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6.jpeg" ContentType="image/jpeg"/>
  <Override PartName="/ppt/media/image27.jpeg" ContentType="image/jpeg"/>
  <Override PartName="/ppt/media/image11.jpeg" ContentType="image/jpeg"/>
  <Override PartName="/ppt/media/image9.jpeg" ContentType="image/jpeg"/>
  <Override PartName="/ppt/media/image29.jpeg" ContentType="image/jpeg"/>
  <Override PartName="/ppt/media/image10.jpeg" ContentType="image/jpeg"/>
  <Override PartName="/ppt/media/image8.jpeg" ContentType="image/jpeg"/>
  <Override PartName="/ppt/media/image13.jpeg" ContentType="image/jpeg"/>
  <Override PartName="/ppt/media/image30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18.jpeg" ContentType="image/jpeg"/>
  <Override PartName="/ppt/media/image19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A4F09-5929-4313-91BF-4AB34B1BB0C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6E46A1-78C6-4EE2-AC90-D523BF89F5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8FBA4B-71AD-4332-97DE-94E9DFE0B8B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A24516-0C89-491D-8150-7E134D42B9E4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F450AB-CD02-4372-BA14-17D92BCDEF1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D1C182-E884-42F0-9142-AC171767F32A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114DED-72FF-4FF3-9D95-102731DD233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C0E6A-F384-4294-8FA3-47717092FA6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FF9DB2-AA3D-42EF-A04F-05F5753AE65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92939A-1DD9-408F-9F91-E8A03AAB0471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F713EF-2314-4F4A-83AB-98425CF5B5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148AFA-CD42-4950-8A0B-ABE63B578F49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34751-F222-4FA0-9002-0856B910077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6D8BC3-3CA1-4124-ACBF-E3B99A85582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886D3D-E917-4F1F-9CF9-8E673FAA0D8B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37BE00-753B-4BFF-9C87-54BA960C40B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6F281-35E6-42CA-A0A9-AFFEF647F5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E26DE-693B-418F-8467-634127DB5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08ECF-A409-4E43-8726-EE76933BB6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C6CEE-2A4E-4221-B32F-E102EAE50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47386-8C79-4AC0-8D30-8ED5AFCD6C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978F-0670-45D3-A137-783262770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7822-3F3C-4C96-AA0D-AFCBAFFB67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8F252-01F6-4EC5-851B-1E92970D71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898FB-C606-48BC-A962-90892EBF5B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9FE7F-5E52-4B82-A46A-936960EEA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CC898-F227-4FC9-8F8B-C1523E31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A4B3-6B75-4098-BBDA-CB41BF2CC6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E4B792-0652-4257-8A72-5A71E48DFD0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jpeg"/><Relationship Id="rId3" Type="http://schemas.openxmlformats.org/officeDocument/2006/relationships/image" Target="../media/image24.jpeg"/><Relationship Id="rId4" Type="http://schemas.openxmlformats.org/officeDocument/2006/relationships/image" Target="../media/image25.jpeg"/><Relationship Id="rId5" Type="http://schemas.openxmlformats.org/officeDocument/2006/relationships/image" Target="../media/image26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image" Target="../media/image31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Rectangle 2" descr=""/>
          <p:cNvPicPr/>
          <p:nvPr/>
        </p:nvPicPr>
        <p:blipFill>
          <a:blip r:embed="rId1"/>
          <a:stretch/>
        </p:blipFill>
        <p:spPr>
          <a:xfrm>
            <a:off x="176040" y="-60480"/>
            <a:ext cx="8967960" cy="1614600"/>
          </a:xfrm>
          <a:prstGeom prst="rect">
            <a:avLst/>
          </a:prstGeom>
          <a:ln w="0">
            <a:noFill/>
          </a:ln>
        </p:spPr>
      </p:pic>
      <p:sp>
        <p:nvSpPr>
          <p:cNvPr id="49" name="Text Box 21"/>
          <p:cNvSpPr/>
          <p:nvPr/>
        </p:nvSpPr>
        <p:spPr>
          <a:xfrm>
            <a:off x="808200" y="5486400"/>
            <a:ext cx="18396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Picture 80" descr="vv"/>
          <p:cNvPicPr/>
          <p:nvPr/>
        </p:nvPicPr>
        <p:blipFill>
          <a:blip r:embed="rId2"/>
          <a:stretch/>
        </p:blipFill>
        <p:spPr>
          <a:xfrm>
            <a:off x="324000" y="3224160"/>
            <a:ext cx="3527280" cy="2781360"/>
          </a:xfrm>
          <a:prstGeom prst="rect">
            <a:avLst/>
          </a:prstGeom>
          <a:ln w="0">
            <a:noFill/>
          </a:ln>
        </p:spPr>
      </p:pic>
      <p:sp>
        <p:nvSpPr>
          <p:cNvPr id="51" name="WordArt 8"/>
          <p:cNvSpPr txBox="1"/>
          <p:nvPr/>
        </p:nvSpPr>
        <p:spPr>
          <a:xfrm>
            <a:off x="468360" y="1000080"/>
            <a:ext cx="8277120" cy="1643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13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/>
                  </a:outerShdw>
                </a:effectLst>
                <a:latin typeface="Impact"/>
              </a:rPr>
              <a:t> </a:t>
            </a:r>
            <a:endParaRPr b="0" lang="en-US" sz="2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52" name="TextBox 8"/>
          <p:cNvSpPr/>
          <p:nvPr/>
        </p:nvSpPr>
        <p:spPr>
          <a:xfrm>
            <a:off x="2411280" y="5950080"/>
            <a:ext cx="3889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Волгогра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0000"/>
                </a:solidFill>
                <a:latin typeface="Times New Roman"/>
              </a:rPr>
              <a:t>9 мая 2015 год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Рисунок 6" descr="T:\usr\exchange\МОЛОДЕЖНЫЙ СОВЕТ\Проведенные мероприятия\2015\Волгоград\DSCN2256.JPG"/>
          <p:cNvPicPr/>
          <p:nvPr/>
        </p:nvPicPr>
        <p:blipFill>
          <a:blip r:embed="rId3"/>
          <a:stretch/>
        </p:blipFill>
        <p:spPr>
          <a:xfrm>
            <a:off x="4064040" y="1484280"/>
            <a:ext cx="4900680" cy="3600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452520" y="4861080"/>
            <a:ext cx="83916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кульптурная группа «Искусство» (фонтан) установлена на верхней террасе набережной Волги                     в августе 1957 года. Авторы – скульптор С.С. Алешин, архитектор В.Е. Шалашов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ронзовая скульптурная группа изображает трех девушек, исполняющих народный танец (по мотивам танцевального коллектива "Березка"). Оформление фонтана и пьедестала выполнено из красного полированного гранита. Отливка и гранитные заготовки деталей выполнены Мытищинским заводом художественного литья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Фонтан «Искусство» – главное украшение центральной набережной города. Здесь проходят смотры художественной самодеятельности, дни города, празднование Дня Победы и другие праздники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Rectangle 5"/>
          <p:cNvSpPr/>
          <p:nvPr/>
        </p:nvSpPr>
        <p:spPr>
          <a:xfrm>
            <a:off x="762120" y="0"/>
            <a:ext cx="7772400" cy="11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ЦЕНТРАЛЬНАЯ НАБЕРЕЖ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ФОНТАН «ИСКУССТВО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3" name="Рисунок 4" descr="T:\usr\exchange\МОЛОДЕЖНЫЙ СОВЕТ\Проведенные мероприятия\2015\Волгоград\DSCN2338.JPG"/>
          <p:cNvPicPr/>
          <p:nvPr/>
        </p:nvPicPr>
        <p:blipFill>
          <a:blip r:embed="rId1"/>
          <a:stretch/>
        </p:blipFill>
        <p:spPr>
          <a:xfrm>
            <a:off x="3105000" y="1052640"/>
            <a:ext cx="3086280" cy="38084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Rectangle 3"/>
          <p:cNvSpPr/>
          <p:nvPr/>
        </p:nvSpPr>
        <p:spPr>
          <a:xfrm>
            <a:off x="428760" y="1000080"/>
            <a:ext cx="84643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Прибывающие в  город на Волге не могут не оценить по достоинству речной вокзал. Размеры сооружения внушительны: длина – 296 м, ширина – 36 м, высота круглой башни - 47 метров. К вокзалу одновременно могут причаливать                            6 теплоходов, есть в нем гостиница, киноконцертный зал на 1200 мест, ресторан, кафе, два бара, танцевальный зал.  Волгоградский речной вокзал – крупнейший                на Волге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Rectangle 5"/>
          <p:cNvSpPr/>
          <p:nvPr/>
        </p:nvSpPr>
        <p:spPr>
          <a:xfrm>
            <a:off x="762120" y="0"/>
            <a:ext cx="77724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НАБЕРЕЖ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РЕЧНОЙ ВОКЗА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1"/>
          <a:stretch/>
        </p:blipFill>
        <p:spPr>
          <a:xfrm>
            <a:off x="1476360" y="2637000"/>
            <a:ext cx="6676920" cy="38876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Rectangle 2"/>
          <p:cNvSpPr/>
          <p:nvPr/>
        </p:nvSpPr>
        <p:spPr>
          <a:xfrm>
            <a:off x="76212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ЛИНГРАДСКАЯ БИ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ЗЕЙ-ПАНОРА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4"/>
          <p:cNvSpPr/>
          <p:nvPr/>
        </p:nvSpPr>
        <p:spPr>
          <a:xfrm>
            <a:off x="0" y="29718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5"/>
          <p:cNvSpPr/>
          <p:nvPr/>
        </p:nvSpPr>
        <p:spPr>
          <a:xfrm>
            <a:off x="533520" y="4952880"/>
            <a:ext cx="83055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333333"/>
                </a:solidFill>
                <a:latin typeface="Georgia"/>
              </a:rPr>
              <a:t>       </a:t>
            </a:r>
            <a:r>
              <a:rPr b="0" lang="ru-RU" sz="1800" spc="-1" strike="noStrike">
                <a:solidFill>
                  <a:srgbClr val="333333"/>
                </a:solidFill>
                <a:latin typeface="Times New Roman"/>
              </a:rPr>
              <a:t>Безграничная любовь и преданность защитников Сталинграда своей Родине, советскому народу, Советскому правительству, партии Ленина — Сталина, любимому вождю товарищу Сталину проявились не только в беспримерной храбрости, мужестве, стойкости и героизме, но и в стремлении лучших воинов сражаться за Сталинград, за Родину коммунистами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6" descr=""/>
          <p:cNvPicPr/>
          <p:nvPr/>
        </p:nvPicPr>
        <p:blipFill>
          <a:blip r:embed="rId1"/>
          <a:stretch/>
        </p:blipFill>
        <p:spPr>
          <a:xfrm>
            <a:off x="1908000" y="1020600"/>
            <a:ext cx="5388120" cy="39024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76212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4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АНОРАМ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АЗГРОМ НЕМЕЦКО-ФАШИСТСКИХ ВОЙСК ПОД СТАЛИНГРАДОМ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Rectangle 6"/>
          <p:cNvSpPr/>
          <p:nvPr/>
        </p:nvSpPr>
        <p:spPr>
          <a:xfrm>
            <a:off x="285840" y="4857840"/>
            <a:ext cx="861048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285840" y="4857840"/>
            <a:ext cx="861048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5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Гитлер негодовал, а командование не могло ему объяснить причины поражений. Те офицеры вермахта, кому чудом удалось выжить, до сих пор не поймут этого советского героизма – без хлеба, воды, а часто и без оружия. «Мы два дня не могли взять этот этаж. Оказалось, что его держали несколько 15-летних подростков.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«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  <a:ea typeface="Arial"/>
              </a:rPr>
              <a:t>Я не верю, что дети подчинялись приказу Сталина», - рассказывает Хорст Цанк, бывший капитан вермахта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4" name="Picture 8" descr=""/>
          <p:cNvPicPr/>
          <p:nvPr/>
        </p:nvPicPr>
        <p:blipFill>
          <a:blip r:embed="rId1"/>
          <a:stretch/>
        </p:blipFill>
        <p:spPr>
          <a:xfrm>
            <a:off x="1042920" y="1197000"/>
            <a:ext cx="6767640" cy="3581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4"/>
          <p:cNvSpPr/>
          <p:nvPr/>
        </p:nvSpPr>
        <p:spPr>
          <a:xfrm>
            <a:off x="76212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ТАЛИНГРАДСКАЯ БИТВ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УЗЕЙ-ПАНОРАМ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Picture 5" descr=""/>
          <p:cNvPicPr/>
          <p:nvPr/>
        </p:nvPicPr>
        <p:blipFill>
          <a:blip r:embed="rId1"/>
          <a:stretch/>
        </p:blipFill>
        <p:spPr>
          <a:xfrm>
            <a:off x="250920" y="1066680"/>
            <a:ext cx="3025800" cy="201636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2"/>
          <a:stretch/>
        </p:blipFill>
        <p:spPr>
          <a:xfrm>
            <a:off x="5423040" y="900000"/>
            <a:ext cx="3706560" cy="234972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8" descr=""/>
          <p:cNvPicPr/>
          <p:nvPr/>
        </p:nvPicPr>
        <p:blipFill>
          <a:blip r:embed="rId3"/>
          <a:stretch/>
        </p:blipFill>
        <p:spPr>
          <a:xfrm>
            <a:off x="108000" y="4586400"/>
            <a:ext cx="3484440" cy="20970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9" descr="E:\6731423.jpg"/>
          <p:cNvPicPr/>
          <p:nvPr/>
        </p:nvPicPr>
        <p:blipFill>
          <a:blip r:embed="rId4"/>
          <a:stretch/>
        </p:blipFill>
        <p:spPr>
          <a:xfrm>
            <a:off x="5810400" y="4470480"/>
            <a:ext cx="3319200" cy="23270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0" descr=""/>
          <p:cNvPicPr/>
          <p:nvPr/>
        </p:nvPicPr>
        <p:blipFill>
          <a:blip r:embed="rId5"/>
          <a:stretch/>
        </p:blipFill>
        <p:spPr>
          <a:xfrm>
            <a:off x="3008160" y="2276640"/>
            <a:ext cx="3467160" cy="23763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Rectangle 5"/>
          <p:cNvSpPr/>
          <p:nvPr/>
        </p:nvSpPr>
        <p:spPr>
          <a:xfrm>
            <a:off x="762120" y="0"/>
            <a:ext cx="77724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 МЕМОРИАЛЬНЫМ МЕСТАМ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Rectangle 9"/>
          <p:cNvSpPr/>
          <p:nvPr/>
        </p:nvSpPr>
        <p:spPr>
          <a:xfrm>
            <a:off x="282600" y="5267160"/>
            <a:ext cx="2990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Есть на Волге утес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 бронею оброс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Что из нашей отваги куетс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мире нет никого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Кто не знал бы его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н у нас Сталинградом зовется.</a:t>
            </a:r>
            <a:r>
              <a:rPr b="0" lang="ru-RU" sz="1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Rectangle 10"/>
          <p:cNvSpPr/>
          <p:nvPr/>
        </p:nvSpPr>
        <p:spPr>
          <a:xfrm>
            <a:off x="3289320" y="5262480"/>
            <a:ext cx="3001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б утес броневой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Бьется лютый прибой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ьется воронов черная стая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 стоит он стеной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д равниной степной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и сомненья, ни страха не зная.</a:t>
            </a:r>
            <a:r>
              <a:rPr b="0" lang="ru-RU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6285960" y="5267160"/>
            <a:ext cx="2734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х, ты, Волга-река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Широка, глубока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ы видала сражений немало,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о такой лютый бой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Ты, родная, впервой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своих берегах увидала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5" name="Picture 11" descr=""/>
          <p:cNvPicPr/>
          <p:nvPr/>
        </p:nvPicPr>
        <p:blipFill>
          <a:blip r:embed="rId1"/>
          <a:stretch/>
        </p:blipFill>
        <p:spPr>
          <a:xfrm>
            <a:off x="5592600" y="620640"/>
            <a:ext cx="3529080" cy="26463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9" descr="T:\usr\exchange\МОЛОДЕЖНЫЙ СОВЕТ\Проведенные мероприятия\2015\Волгоград\DSCN2293.JPG"/>
          <p:cNvPicPr/>
          <p:nvPr/>
        </p:nvPicPr>
        <p:blipFill>
          <a:blip r:embed="rId2"/>
          <a:stretch/>
        </p:blipFill>
        <p:spPr>
          <a:xfrm>
            <a:off x="173160" y="706320"/>
            <a:ext cx="3112920" cy="2473560"/>
          </a:xfrm>
          <a:prstGeom prst="rect">
            <a:avLst/>
          </a:prstGeom>
          <a:ln w="0">
            <a:noFill/>
          </a:ln>
        </p:spPr>
      </p:pic>
      <p:pic>
        <p:nvPicPr>
          <p:cNvPr id="107" name="Рисунок 11" descr="T:\usr\exchange\МОЛОДЕЖНЫЙ СОВЕТ\Проведенные мероприятия\2015\Волгоград\DSCN2281.JPG"/>
          <p:cNvPicPr/>
          <p:nvPr/>
        </p:nvPicPr>
        <p:blipFill>
          <a:blip r:embed="rId3"/>
          <a:stretch/>
        </p:blipFill>
        <p:spPr>
          <a:xfrm>
            <a:off x="173160" y="2755800"/>
            <a:ext cx="3200400" cy="240192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2" descr="T:\usr\exchange\МОЛОДЕЖНЫЙ СОВЕТ\Проведенные мероприятия\2015\Волгоград\DSCN2359.JPG"/>
          <p:cNvPicPr/>
          <p:nvPr/>
        </p:nvPicPr>
        <p:blipFill>
          <a:blip r:embed="rId4"/>
          <a:stretch/>
        </p:blipFill>
        <p:spPr>
          <a:xfrm>
            <a:off x="5940360" y="2421000"/>
            <a:ext cx="2016360" cy="289728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0" descr=""/>
          <p:cNvPicPr/>
          <p:nvPr/>
        </p:nvPicPr>
        <p:blipFill>
          <a:blip r:embed="rId5"/>
          <a:stretch/>
        </p:blipFill>
        <p:spPr>
          <a:xfrm>
            <a:off x="3121200" y="609480"/>
            <a:ext cx="3189240" cy="299412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4" descr="T:\usr\exchange\МОЛОДЕЖНЫЙ СОВЕТ\Проведенные мероприятия\2015\Волгоград\DSCN2341.JPG"/>
          <p:cNvPicPr/>
          <p:nvPr/>
        </p:nvPicPr>
        <p:blipFill>
          <a:blip r:embed="rId1"/>
          <a:stretch/>
        </p:blipFill>
        <p:spPr>
          <a:xfrm>
            <a:off x="1782720" y="2421000"/>
            <a:ext cx="5329440" cy="3957480"/>
          </a:xfrm>
          <a:prstGeom prst="rect">
            <a:avLst/>
          </a:prstGeom>
          <a:ln w="0">
            <a:noFill/>
          </a:ln>
        </p:spPr>
      </p:pic>
      <p:sp>
        <p:nvSpPr>
          <p:cNvPr id="111" name="TextBox 5"/>
          <p:cNvSpPr/>
          <p:nvPr/>
        </p:nvSpPr>
        <p:spPr>
          <a:xfrm>
            <a:off x="395280" y="549360"/>
            <a:ext cx="842472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ff0000"/>
                </a:solidFill>
                <a:latin typeface="Times New Roman"/>
              </a:rPr>
              <a:t>На прощание Молодежный Совет УФК по Тамбовской области оставил пожелания крепкого здоровья, счастья и мирного неба в Книге пожеланий в День Победы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51920" y="3809880"/>
            <a:ext cx="8991720" cy="2833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Золотыми буквами вписаны в летопись истории Великой Отечественной войны имена городов-героев: Москвы, Ленинграда, Волгограда, Киева, Минска, Одессы, Севастополя и других. 22 июня 1941 года гитлеровская Германия вероломно нарушила договор о ненападении и начала военные действия против нашей страны. Основные группировки врага были нацелены на захват важнейших центров страны. Как могучая крепость-бастион, встал на пути вражеских полчищ город Сталинград (ныне Волгоград). В сражении за этот город ярко проявилась боевая доблесть войск, мужество населения. Воины и труженики тыла, взрослые и дети, не жалея сил, ковали победу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Рисунок 5" descr="T:\usr\exchange\МОЛОДЕЖНЫЙ СОВЕТ\Проведенные мероприятия\2015\Волгоград\DSCN2257.JPG"/>
          <p:cNvPicPr/>
          <p:nvPr/>
        </p:nvPicPr>
        <p:blipFill>
          <a:blip r:embed="rId1"/>
          <a:stretch/>
        </p:blipFill>
        <p:spPr>
          <a:xfrm>
            <a:off x="2340000" y="404640"/>
            <a:ext cx="4535640" cy="34005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39280" y="0"/>
            <a:ext cx="822348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МАЕВ КУРГАН</a:t>
            </a:r>
            <a:br>
              <a:rPr sz="28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ОНУМЕНТ «РОДИНА-МАТЬ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6840" y="5013360"/>
            <a:ext cx="8381880" cy="146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indent="0" algn="just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перепаханном снарядами Мамаевом кургане, где советский солдат водрузил победное знамя, ныне поднялся величественный мемориальный комплекс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умент «Родина-мать». Эта скульптура стала символом города и Сталинградской победы. Величие победы отражается в размерах монумента. Высота скульптуры – 85 метров, вес – 8 тысяч тонн. Мемориал строился восемь лет (1959-1967). Руководитель авторского коллектива –скульптор Е. Вучетич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Рисунок 4" descr="T:\usr\exchange\МОЛОДЕЖНЫЙ СОВЕТ\Проведенные мероприятия\2015\Волгоград\DSCN2319.JPG"/>
          <p:cNvPicPr/>
          <p:nvPr/>
        </p:nvPicPr>
        <p:blipFill>
          <a:blip r:embed="rId1"/>
          <a:stretch/>
        </p:blipFill>
        <p:spPr>
          <a:xfrm>
            <a:off x="3083040" y="907920"/>
            <a:ext cx="2987640" cy="39610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5"/>
          <p:cNvSpPr/>
          <p:nvPr/>
        </p:nvSpPr>
        <p:spPr>
          <a:xfrm>
            <a:off x="0" y="0"/>
            <a:ext cx="914400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ВЕЧНЫЙ ОГОНЬ В ЗАЛЕ ВОИНСКОЙ СЛАВ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Text Box 6"/>
          <p:cNvSpPr/>
          <p:nvPr/>
        </p:nvSpPr>
        <p:spPr>
          <a:xfrm>
            <a:off x="4284720" y="836640"/>
            <a:ext cx="453528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вторский коллектив, возглавляемый Е.В. Вучетичем, состоял из 12 архитекторов и скульпторов. Им потребовалось 7 лет для того, чтобы композиции скульптурного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ансамбля навечно застыли перед братскими могилами героев великой битвы. Военным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консультантом являлся дважды Герой Советского Союза Маршал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Советского Союза В.И. Чуйков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Рисунок 4" descr="T:\usr\exchange\МОЛОДЕЖНЫЙ СОВЕТ\Проведенные мероприятия\2015\Волгоград\DSCN2299.JPG"/>
          <p:cNvPicPr/>
          <p:nvPr/>
        </p:nvPicPr>
        <p:blipFill>
          <a:blip r:embed="rId1"/>
          <a:stretch/>
        </p:blipFill>
        <p:spPr>
          <a:xfrm>
            <a:off x="422280" y="1069920"/>
            <a:ext cx="3745080" cy="4897440"/>
          </a:xfrm>
          <a:prstGeom prst="rect">
            <a:avLst/>
          </a:prstGeom>
          <a:ln w="0">
            <a:noFill/>
          </a:ln>
        </p:spPr>
      </p:pic>
      <p:pic>
        <p:nvPicPr>
          <p:cNvPr id="62" name="Рисунок 5" descr="T:\usr\exchange\МОЛОДЕЖНЫЙ СОВЕТ\Проведенные мероприятия\2015\Волгоград\DSCN2362.JPG"/>
          <p:cNvPicPr/>
          <p:nvPr/>
        </p:nvPicPr>
        <p:blipFill>
          <a:blip r:embed="rId2"/>
          <a:stretch/>
        </p:blipFill>
        <p:spPr>
          <a:xfrm>
            <a:off x="5364000" y="3517920"/>
            <a:ext cx="2192400" cy="293220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214200" y="4114440"/>
            <a:ext cx="871560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площади – склонившаяся фигура женщины-матери, скорбящая над погибшим в бою воином-сыном. Композиция выполнена из монолитного железобетона. В основании скульптуры - небольшой бассейн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Площади скорби - могила Маршала Советского Союза В. И. Чуйкова, бывшего командующего войсками 62-й, защищавшей Сталинград в 1942 – 1943 гг. </a:t>
            </a:r>
            <a:br>
              <a:rPr sz="1800"/>
            </a:b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 надгробной плите из черного полированного гранита надпись: </a:t>
            </a:r>
            <a:br>
              <a:rPr sz="1800"/>
            </a:br>
            <a:r>
              <a:rPr b="0" i="1" lang="ru-RU" sz="1800" spc="-1" strike="noStrike">
                <a:solidFill>
                  <a:srgbClr val="000000"/>
                </a:solidFill>
                <a:latin typeface="Times New Roman"/>
              </a:rPr>
              <a:t>"Дважды Герой Советского Союза, Маршал Советского Союза Чуйков Василий Иванович. 12.II. 1900 - 18.III.1982 г."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1812960" y="101520"/>
            <a:ext cx="540360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МАЕВ КУРГАН</a:t>
            </a:r>
            <a:br>
              <a:rPr sz="3600"/>
            </a:b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УЛЬПТУРА «СКОРБЬ МАТЕРИ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" name="Рисунок 4" descr="T:\usr\exchange\МОЛОДЕЖНЫЙ СОВЕТ\Проведенные мероприятия\2015\Волгоград\DSCN2308.JPG"/>
          <p:cNvPicPr/>
          <p:nvPr/>
        </p:nvPicPr>
        <p:blipFill>
          <a:blip r:embed="rId1"/>
          <a:stretch/>
        </p:blipFill>
        <p:spPr>
          <a:xfrm>
            <a:off x="2124000" y="985680"/>
            <a:ext cx="4622760" cy="3090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/>
          </p:nvPr>
        </p:nvSpPr>
        <p:spPr>
          <a:xfrm>
            <a:off x="213840" y="4876920"/>
            <a:ext cx="8643960" cy="137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Над Площадью скорби поднимается насыпной курган – святая святых памятника - братские могилы. Здесь похоронены около 35 тысяч павших защитников города.  От Площади скорби к главному монументу ведет серпантинная дорожка, вдоль которой - надгробные плиты. Всего таких плит 35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Picture 4" descr="2-4"/>
          <p:cNvPicPr/>
          <p:nvPr/>
        </p:nvPicPr>
        <p:blipFill>
          <a:blip r:embed="rId1"/>
          <a:stretch/>
        </p:blipFill>
        <p:spPr>
          <a:xfrm>
            <a:off x="106200" y="765000"/>
            <a:ext cx="4459320" cy="3332160"/>
          </a:xfrm>
          <a:prstGeom prst="rect">
            <a:avLst/>
          </a:prstGeom>
          <a:ln w="0">
            <a:noFill/>
          </a:ln>
        </p:spPr>
      </p:pic>
      <p:pic>
        <p:nvPicPr>
          <p:cNvPr id="68" name="Рисунок 4" descr="T:\usr\exchange\МОЛОДЕЖНЫЙ СОВЕТ\Проведенные мероприятия\2015\Волгоград\DSCN2314.JPG"/>
          <p:cNvPicPr/>
          <p:nvPr/>
        </p:nvPicPr>
        <p:blipFill>
          <a:blip r:embed="rId2"/>
          <a:stretch/>
        </p:blipFill>
        <p:spPr>
          <a:xfrm>
            <a:off x="4788000" y="765000"/>
            <a:ext cx="4032000" cy="34070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7"/>
          <p:cNvSpPr/>
          <p:nvPr/>
        </p:nvSpPr>
        <p:spPr>
          <a:xfrm>
            <a:off x="76212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МАЕВ КУРГ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ЛОЩАДЬ ПАВШИХ ГЕРОЕ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Text Box 6"/>
          <p:cNvSpPr/>
          <p:nvPr/>
        </p:nvSpPr>
        <p:spPr>
          <a:xfrm>
            <a:off x="3147840" y="1082520"/>
            <a:ext cx="3000600" cy="435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м, где двести дней и ноче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Бушевала великая битва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м, где кровью тысяч люде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Каждый метр земли был пропитан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м, где сила советских солда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окрушила фашистскую силу, - 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м давно уже пушки молчат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 от пожарищ остыли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Там сегодня над Волгой-рекой,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На священной земле сталинградской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Рвется к солнцу цветок полевой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Из-под каски пробитой солдатской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знь! Мы славим величье ее.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Жить! – Вот благо и счастье людское!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За него, за счастье твое и мое</a:t>
            </a:r>
            <a:br>
              <a:rPr sz="1400"/>
            </a:b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Свои жизни отдали герои…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1" name="Рисунок 4" descr="T:\usr\exchange\МОЛОДЕЖНЫЙ СОВЕТ\Проведенные мероприятия\2015\Волгоград\DSCN2285.JPG"/>
          <p:cNvPicPr/>
          <p:nvPr/>
        </p:nvPicPr>
        <p:blipFill>
          <a:blip r:embed="rId1"/>
          <a:stretch/>
        </p:blipFill>
        <p:spPr>
          <a:xfrm>
            <a:off x="227160" y="1066680"/>
            <a:ext cx="2112840" cy="2730600"/>
          </a:xfrm>
          <a:prstGeom prst="rect">
            <a:avLst/>
          </a:prstGeom>
          <a:ln w="0">
            <a:noFill/>
          </a:ln>
        </p:spPr>
      </p:pic>
      <p:pic>
        <p:nvPicPr>
          <p:cNvPr id="72" name="Рисунок 5" descr="T:\usr\exchange\МОЛОДЕЖНЫЙ СОВЕТ\Проведенные мероприятия\2015\Волгоград\DSCN2286.JPG"/>
          <p:cNvPicPr/>
          <p:nvPr/>
        </p:nvPicPr>
        <p:blipFill>
          <a:blip r:embed="rId2"/>
          <a:stretch/>
        </p:blipFill>
        <p:spPr>
          <a:xfrm>
            <a:off x="6589800" y="1082520"/>
            <a:ext cx="1944720" cy="2730600"/>
          </a:xfrm>
          <a:prstGeom prst="rect">
            <a:avLst/>
          </a:prstGeom>
          <a:ln w="0">
            <a:noFill/>
          </a:ln>
        </p:spPr>
      </p:pic>
      <p:pic>
        <p:nvPicPr>
          <p:cNvPr id="73" name="Рисунок 6" descr="T:\usr\exchange\МОЛОДЕЖНЫЙ СОВЕТ\Проведенные мероприятия\2015\Волгоград\DSCN2287.JPG"/>
          <p:cNvPicPr/>
          <p:nvPr/>
        </p:nvPicPr>
        <p:blipFill>
          <a:blip r:embed="rId3"/>
          <a:stretch/>
        </p:blipFill>
        <p:spPr>
          <a:xfrm>
            <a:off x="900000" y="4017960"/>
            <a:ext cx="2040120" cy="2719440"/>
          </a:xfrm>
          <a:prstGeom prst="rect">
            <a:avLst/>
          </a:prstGeom>
          <a:ln w="0">
            <a:noFill/>
          </a:ln>
        </p:spPr>
      </p:pic>
      <p:pic>
        <p:nvPicPr>
          <p:cNvPr id="74" name="Рисунок 7" descr="T:\usr\exchange\МОЛОДЕЖНЫЙ СОВЕТ\Проведенные мероприятия\2015\Волгоград\DSCN2289.JPG"/>
          <p:cNvPicPr/>
          <p:nvPr/>
        </p:nvPicPr>
        <p:blipFill>
          <a:blip r:embed="rId4"/>
          <a:stretch/>
        </p:blipFill>
        <p:spPr>
          <a:xfrm>
            <a:off x="6135840" y="4017960"/>
            <a:ext cx="2016000" cy="270684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5"/>
          <p:cNvSpPr/>
          <p:nvPr/>
        </p:nvSpPr>
        <p:spPr>
          <a:xfrm>
            <a:off x="76212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МАМАЕВ КУРГА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СКУЛЬПТУРА «СТОЯТЬ НАСМЕРТЬ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228600" y="4267080"/>
            <a:ext cx="8915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 дни Сталинградской битвы Мамаев курган был ключевой позицией обороны города.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Кто держал его вершину в своих руках, тот господствовал над округой. Вот почему н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этом участке фронта с 13 сентября 1942 года по 26 января 1943 года кипели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жесточенные бои. За 135 суток столько бомб, снарядов и мин было обрушено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на курган, что крутые скаты его стали отлогими. И трудно сказать, чего больше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осталось после битвы на высоте - земли или осколков металла. Мамаев курган стал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символом героизма, мужества и отваги советских воинов. И по праву именно эта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высота послужила пьедесталом величественного памятника легендарным защитникам Сталинграда.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Рисунок 4" descr="T:\usr\exchange\МОЛОДЕЖНЫЙ СОВЕТ\Проведенные мероприятия\2015\Волгоград\DSCN2257.JPG"/>
          <p:cNvPicPr/>
          <p:nvPr/>
        </p:nvPicPr>
        <p:blipFill>
          <a:blip r:embed="rId1"/>
          <a:stretch/>
        </p:blipFill>
        <p:spPr>
          <a:xfrm>
            <a:off x="2467080" y="1084320"/>
            <a:ext cx="4119480" cy="309096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2"/>
          <p:cNvSpPr/>
          <p:nvPr/>
        </p:nvSpPr>
        <p:spPr>
          <a:xfrm>
            <a:off x="762120" y="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ДОМ ПАВЛОВ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Rectangle 4"/>
          <p:cNvSpPr/>
          <p:nvPr/>
        </p:nvSpPr>
        <p:spPr>
          <a:xfrm>
            <a:off x="304920" y="5638680"/>
            <a:ext cx="861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81000"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Times New Roman"/>
              </a:rPr>
              <a:t>Дом сержанта Павлова, ставший неприступной крепостью для врага в дни Сталинградской битвы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Picture 5" descr="E:\11_big.jpg"/>
          <p:cNvPicPr/>
          <p:nvPr/>
        </p:nvPicPr>
        <p:blipFill>
          <a:blip r:embed="rId1"/>
          <a:stretch/>
        </p:blipFill>
        <p:spPr>
          <a:xfrm>
            <a:off x="2916360" y="763560"/>
            <a:ext cx="3582720" cy="4778280"/>
          </a:xfrm>
          <a:prstGeom prst="rect">
            <a:avLst/>
          </a:prstGeom>
          <a:ln w="0">
            <a:noFill/>
          </a:ln>
        </p:spPr>
      </p:pic>
    </p:spTree>
  </p:cSld>
  <p:transition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0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8T05:58:18Z</dcterms:created>
  <dc:creator>trcfio</dc:creator>
  <dc:description/>
  <dc:language>en-US</dc:language>
  <cp:lastModifiedBy>Шишкова Юлия Викторовна</cp:lastModifiedBy>
  <dcterms:modified xsi:type="dcterms:W3CDTF">2015-05-13T13:24:07Z</dcterms:modified>
  <cp:revision>260</cp:revision>
  <dc:subject/>
  <dc:title>Презентация PowerPoint</dc:title>
</cp:coreProperties>
</file>